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D4D4-2031-44A8-A907-BAB91591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0B3C-8530-4C7E-A329-CC7A395F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922-97DD-4830-B285-7A8F8AD2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49B-EAEB-4B2A-9EDA-FC4A21E6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3D40-E947-42BB-AF4B-EF04905F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3537-C8D4-4929-8FBA-5888A196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D08A-93A8-4763-979A-FD447E8F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D659-0DEA-4853-8A86-EA1086DC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3E10-43B6-4379-95DD-9BA06134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4D2B-7B31-420F-8671-1487DB10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D97F-B84D-4C40-A4F1-4EE8D697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E00-FD6E-421C-AE90-9B9D92E3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13D6-63EB-45D1-8487-80FE02D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F139-7195-4A3B-B756-3F6CF3AB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6243-0684-427D-9193-34B70E4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D44B-7262-419A-86B6-80FC6B018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2129-A592-4B3E-AE40-61FAD7CD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C5F-1E8A-43DE-9B43-8421B39D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6CF-82DC-458F-87F5-9419A055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B62-1707-4277-9983-F4B55238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D53-21FE-4574-8571-CC438753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3ED-6EA3-47B6-B7A1-46DC1A2E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BAA-BB75-4219-820E-D74767AF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FD7-F952-409F-9A95-06F8D385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BA27-5E82-4BA2-8AEF-B33D45F7AC23}" type="slidenum">
              <a:rPr b="0" lang="en-A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7318-8CCE-411E-93E5-C5786443326C}" type="slidenum">
              <a:rPr b="0" lang="en-A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HE TEACHING-LEARNING CYCLE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 and the teacher engage in cooperat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alogues to enhance learning that </a:t>
            </a:r>
            <a:r>
              <a:rPr b="0" i="1" lang="en-US" sz="3200" spc="-1" strike="noStrike">
                <a:solidFill>
                  <a:srgbClr val="ccff66"/>
                </a:solidFill>
                <a:latin typeface="Arial"/>
              </a:rPr>
              <a:t>the chil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66"/>
                </a:solidFill>
                <a:latin typeface="Arial"/>
              </a:rPr>
              <a:t>is able to recall privately when completing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ff66"/>
                </a:solidFill>
                <a:latin typeface="Arial"/>
              </a:rPr>
              <a:t>similar task/activity independently.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her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child takes in the discussion of th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ask/activity and uses it as private speech 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ater occasions.”   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rial"/>
              </a:rPr>
              <a:t>SCAFFOLDING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Vygotsky’s notion of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scaffold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b9efee"/>
                </a:solidFill>
                <a:latin typeface="Arial"/>
              </a:rPr>
              <a:t>directly relates t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Arial"/>
              </a:rPr>
              <a:t>hi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notions of Private Speech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b9efee"/>
                </a:solidFill>
                <a:latin typeface="Arial"/>
              </a:rPr>
              <a:t>and th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Zone of Proxima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Development. 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In order for a child to learn new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concepts or skills </a:t>
            </a:r>
            <a:r>
              <a:rPr b="0" i="1" lang="en-US" sz="4400" spc="-1" strike="noStrike">
                <a:solidFill>
                  <a:srgbClr val="ccff66"/>
                </a:solidFill>
                <a:latin typeface="Arial"/>
              </a:rPr>
              <a:t>the teache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66"/>
                </a:solidFill>
                <a:latin typeface="Arial"/>
              </a:rPr>
              <a:t>must provide scaffolds for th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66"/>
                </a:solidFill>
                <a:latin typeface="Arial"/>
              </a:rPr>
              <a:t>learning experience. 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Garamond"/>
              </a:rPr>
              <a:t>scaffolding is withdrawn a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Garamond"/>
              </a:rPr>
              <a:t>individual competenc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Garamond"/>
              </a:rPr>
              <a:t>develop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Garamond"/>
              </a:rPr>
              <a:t>What are the Educational implications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91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the student is an active participant in the learning process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ividual differences are accounted for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children are assisted in discovery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2480" y="476280"/>
            <a:ext cx="8291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achers guide learning through explanation, demonstration and verbal prompts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lessons can be tailored to each child's zone of proximal development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ote teacher/child and child/child interaction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-40824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184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promote fantasy play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thin the learning environment focus on literacy activitie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b9efee"/>
                </a:solidFill>
                <a:latin typeface="Arial"/>
              </a:rPr>
              <a:t>use prompts, reminders, increase independence, give information, use cooperative learning and reciprocal teaching strategie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51120" y="-651960"/>
            <a:ext cx="8463240" cy="7844400"/>
            <a:chOff x="-51120" y="-651960"/>
            <a:chExt cx="8463240" cy="7844400"/>
          </a:xfrm>
        </p:grpSpPr>
        <p:sp>
          <p:nvSpPr>
            <p:cNvPr id="151" name=""/>
            <p:cNvSpPr/>
            <p:nvPr/>
          </p:nvSpPr>
          <p:spPr>
            <a:xfrm>
              <a:off x="1646280" y="696960"/>
              <a:ext cx="5718240" cy="5081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6280" y="2673360"/>
              <a:ext cx="380880" cy="105264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83960 h 1052640"/>
                <a:gd name="textAreaBottom" fmla="*/ 763200 h 10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798800">
              <a:off x="3933360" y="2585880"/>
              <a:ext cx="428760" cy="1052640"/>
            </a:xfrm>
            <a:custGeom>
              <a:avLst/>
              <a:gdLst>
                <a:gd name="textAreaLeft" fmla="*/ 57240 w 428760"/>
                <a:gd name="textAreaRight" fmla="*/ 371520 w 428760"/>
                <a:gd name="textAreaTop" fmla="*/ 183960 h 1052640"/>
                <a:gd name="textAreaBottom" fmla="*/ 763200 h 10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3853320"/>
                  <a:lnTo>
                    <a:pt x="3600" y="21494"/>
                  </a:lnTo>
                  <a:lnTo>
                    <a:pt x="0" y="17280"/>
                  </a:lnTo>
                  <a:lnTo>
                    <a:pt x="3600" y="12854"/>
                  </a:lnTo>
                  <a:lnTo>
                    <a:pt x="3600" y="15014"/>
                  </a:lnTo>
                  <a:arcTo wR="21600" hR="7560" stAng="3853320" swAng="-3495885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 rot="19050000">
              <a:off x="1258560" y="1125000"/>
              <a:ext cx="2243160" cy="346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65288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Building The Field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 rot="2720400">
              <a:off x="3554640" y="748800"/>
              <a:ext cx="4184640" cy="3639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57278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Modelling / Deconstruction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 rot="8322000">
              <a:off x="5219280" y="4868640"/>
              <a:ext cx="2266920" cy="6174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Joint Construction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 rot="13147200">
              <a:off x="826200" y="764640"/>
              <a:ext cx="6272280" cy="5010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444113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Independent Construction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648240" y="2236680"/>
              <a:ext cx="2000160" cy="1836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ontinue Building the Field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52920" y="696960"/>
              <a:ext cx="0" cy="5081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41320" y="3198960"/>
              <a:ext cx="5718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YGOTSKY- Sociocultural Theory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Arial"/>
              </a:rPr>
              <a:t>the child is viewed as an active seeker of knowledge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Arial"/>
              </a:rPr>
              <a:t>the child and environment interact together enabling cognitive development in a culturally adaptive way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Arial"/>
              </a:rPr>
              <a:t>the mind is perceived to be socially constructed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efee"/>
                </a:solidFill>
                <a:latin typeface="Arial"/>
              </a:rPr>
              <a:t>the child is born with basic attention, perceptual and memory capacities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THE TEACHING-LEARNING CYCLE (TLC!!!!!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BUILDING THE FIEL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MODELLING / DECO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JOINT CO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Garamond"/>
              </a:rPr>
              <a:t>INDEPENDENT CONSTR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CAFFOLDING IN THE CLASSROOM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Arial"/>
              </a:rPr>
              <a:t>Challenges and extends lear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igh challenge and high support new learning takes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9efee"/>
                </a:solidFill>
                <a:latin typeface="Arial"/>
              </a:rPr>
              <a:t>Support gradually withdrawn as learners increasingly become indepen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upport provided at point of n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WHY IS IT USEFUL?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Rationale and  framework for sequence of teaching and learning activiti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Focus on language learning and learning about languag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Pedagogy which ‘scaffolds’ creates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Arial"/>
              </a:rPr>
              <a:t>Flexible framework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ffffff"/>
                </a:solidFill>
                <a:latin typeface="Garamond"/>
              </a:rPr>
              <a:t>Teaching English to Second Language Learners is different because: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………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………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………</a:t>
            </a:r>
            <a:r>
              <a:rPr b="0" lang="en-AU" sz="3200" spc="-1" strike="noStrike">
                <a:solidFill>
                  <a:srgbClr val="ffffff"/>
                </a:solidFill>
                <a:latin typeface="Garamond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836280"/>
            <a:ext cx="814716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development occurs as a direct result of contact with the environment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child as self communicator – leads to higher order thinking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language and thought develop independently, but eventually merge and interact;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RIVATE SPEEC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Vygotsky believed that i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order to learn children must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speak to themselves in a self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guiding and directing way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initially aloud and late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Arial"/>
              </a:rPr>
              <a:t>internally. 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..…as children develop an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become more competent in 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particular area, they begin 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internalise this speech an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b9efee"/>
                </a:solidFill>
                <a:latin typeface="Arial"/>
              </a:rPr>
              <a:t>gradually decrease its use… 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5400" spc="-1" strike="noStrike">
                <a:solidFill>
                  <a:srgbClr val="b9efee"/>
                </a:solidFill>
                <a:latin typeface="Arial"/>
              </a:rPr>
              <a:t>…</a:t>
            </a:r>
            <a:r>
              <a:rPr b="0" i="1" lang="en-US" sz="5400" spc="-1" strike="noStrike">
                <a:solidFill>
                  <a:srgbClr val="b9efee"/>
                </a:solidFill>
                <a:latin typeface="Arial"/>
              </a:rPr>
              <a:t>private speech is the foundation for all higher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b9efee"/>
                </a:solidFill>
                <a:latin typeface="Arial"/>
              </a:rPr>
              <a:t>order thinking processes…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“</a:t>
            </a: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Now where did I put the car keys”…., “Now I must remember to…..”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ygotsky believed that children'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of such talk in daily learn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sks was particularly significant i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ing with difficult concepts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ygotsky’s Sociocultural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ory </a:t>
            </a:r>
            <a:r>
              <a:rPr b="0" lang="en-US" sz="5400" spc="-1" strike="noStrike">
                <a:solidFill>
                  <a:srgbClr val="b9efee"/>
                </a:solidFill>
                <a:latin typeface="Arial"/>
              </a:rPr>
              <a:t>discuss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Arial"/>
              </a:rPr>
              <a:t>cognitive development a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Arial"/>
              </a:rPr>
              <a:t>dependent on </a:t>
            </a:r>
            <a:r>
              <a:rPr b="0" i="1" lang="en-US" sz="5400" spc="-1" strike="noStrike">
                <a:solidFill>
                  <a:srgbClr val="ccff66"/>
                </a:solidFill>
                <a:latin typeface="Arial"/>
              </a:rPr>
              <a:t>interaction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ff66"/>
                </a:solidFill>
                <a:latin typeface="Arial"/>
              </a:rPr>
              <a:t>with adults. 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750600"/>
            <a:ext cx="83628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THE ZONE OF PROXIMA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EVELOP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refers to the task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a child is </a:t>
            </a:r>
            <a:r>
              <a:rPr b="0" lang="en-US" sz="4000" spc="-1" strike="noStrike">
                <a:solidFill>
                  <a:srgbClr val="ccff66"/>
                </a:solidFill>
                <a:latin typeface="Arial"/>
              </a:rPr>
              <a:t>unable</a:t>
            </a: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 to complete alone,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but is </a:t>
            </a:r>
            <a:r>
              <a:rPr b="0" lang="en-US" sz="4000" spc="-1" strike="noStrike">
                <a:solidFill>
                  <a:srgbClr val="ccff66"/>
                </a:solidFill>
                <a:latin typeface="Arial"/>
              </a:rPr>
              <a:t>able</a:t>
            </a: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 to complete with th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Arial"/>
              </a:rPr>
              <a:t>assistance of an adult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9:05:32Z</dcterms:created>
  <dc:creator>default</dc:creator>
  <dc:description/>
  <dc:language>en-US</dc:language>
  <cp:lastModifiedBy>St Agnes</cp:lastModifiedBy>
  <dcterms:modified xsi:type="dcterms:W3CDTF">2009-05-14T03:57:18Z</dcterms:modified>
  <cp:revision>10</cp:revision>
  <dc:subject/>
  <dc:title>THE TEACHING-LEARNING CYCLE</dc:title>
</cp:coreProperties>
</file>